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105-E526-48D8-8A4A-DAD3537F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E19-10F3-43ED-A3A1-B58F5774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8E4-9603-49F8-B097-41CC4D56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AB5-0229-4D19-9CB4-D9F6C40A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867-D045-4794-8C22-52B909E7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235-8E80-4A37-B125-87C0F2AF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E99-D961-4385-A171-AD2481D8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44F-7975-458D-8C44-3B9CCE7C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E5E-56F7-4241-9384-93569EE5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0B1-B24C-4362-8A19-6B554E32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6F7-38BA-4B9B-B24F-494B7189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55A1-358D-48D4-B98D-FA943CBB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3BF0-FB9B-4652-A5DD-E060A0156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1 Prerequi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the set of real numbers in order from LEAST to GREA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What is two-thirds divided by one-fif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Turn  into a mixed number and into a dec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219320" y="2514600"/>
                <a:ext cx="16761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-Õ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295280" y="3048120"/>
                <a:ext cx="1295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r>
                      <m:t xml:space="preserve">Õ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7.  Janice solved the expre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got 1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Is her answer right?  EXPL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200" y="1066680"/>
                <a:ext cx="123984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8.  I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then what does x equ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438280" y="457200"/>
                <a:ext cx="2895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·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9.   What does each ? stan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905120"/>
                <a:ext cx="274320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·</m:t>
                              </m:r>
                              <m:sSup>
                                <m:e>
                                  <m:r>
                                    <m:t xml:space="preserve">x·x</m:t>
                                  </m:r>
                                </m:e>
                                <m:sup>
                                  <m:r>
                                    <m:t xml:space="preserve">?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f>
                                <m:num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p>
                                </m:num>
                                <m:den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?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7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133720" y="914400"/>
                <a:ext cx="449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OC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 1.01a Ex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Laws of Expon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209680" y="685800"/>
                <a:ext cx="30736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362320" y="609480"/>
                <a:ext cx="13334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3.  Find the volu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62120" y="2743200"/>
          <a:ext cx="9983520" cy="254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998352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676520" y="2666880"/>
            <a:ext cx="2286000" cy="1981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4.  I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 does m equ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666880" y="838080"/>
                <a:ext cx="4267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·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·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438280" y="914400"/>
                <a:ext cx="237492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·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09680" y="762120"/>
                <a:ext cx="2133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01:28:56Z</dcterms:created>
  <dc:creator>Sharon Fieldman</dc:creator>
  <dc:description/>
  <dc:language>en-US</dc:language>
  <cp:lastModifiedBy>Sharon Fieldman</cp:lastModifiedBy>
  <dcterms:modified xsi:type="dcterms:W3CDTF">2010-11-29T01:43:38Z</dcterms:modified>
  <cp:revision>3</cp:revision>
  <dc:subject/>
  <dc:title>Goal 1 Prerequisites</dc:title>
</cp:coreProperties>
</file>